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D83-8D94-494E-9FF6-1C62E946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EBD-5114-4E19-A9F1-01B971AA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2AB-2651-4965-9071-D06EA1EF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18C-6E3E-4B7E-B81D-B2D4EF59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B4A-2164-4617-8B11-00644841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41B-1B26-4633-B629-03C15602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B31-7456-40FA-BA63-DD2500E7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9F88-751F-4271-9547-5E431CD8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015-04F4-49FF-BEBA-2ADB609F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298-DB01-409C-BE83-BA52E9D0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543-CD08-41CC-B0F9-C58D517F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763-980F-46E3-8674-AE1E7807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7003-F1CF-4EBE-9CF7-60F06659C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nalc.org/resources/animations/gelelectrophoresi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nalc.org/resources/animations/restriction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 - Biotechnological Tools &amp;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r pieces of non-chromosomal DNA found in bacteria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plasmids have been engineered to contain an area with many recognition sites (and none in other a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be inserted into plasmids by using restriction enzymes and DNA lig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n introduce these genes into bacterial cells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are able to express foreign genes inserted into plasmids, such as the gene for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narrated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inauer.com/cooper5e/animation040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hod of separating molecules based o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igrates through the gel towards a positive electr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ragments move faster through the gel, causing separation b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fragments can be seen by using a stain such as ethidium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interactive animation of gel electrophore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earn.genetics.utah.edu/content/labs/ge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how with focus on scientists and history of gel electrophore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resources/animations/gelelectrophoresi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living organisms in industrial, agricultural, medical, and other technologic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biotechnological tools and techniques used to gain knowledge of and to manipulat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restriction endonuclease (enzyme) isolated in 19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as an “immune system” against invading viruses by cutting up the viral DNA or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 enzymes cut double-stranded DNA at a specif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gnition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sites are alway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indr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(same sequence when read from the 5’ to 3’ direction on either str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arleyworld.org/css430_09/lecture%208-09/notes8-09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55600" y="1752480"/>
            <a:ext cx="675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nt Ends vs. Sticky End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hoolworkhelper.net/2010/07/restriction-endonucleases-or-restriction-enzym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606760"/>
            <a:ext cx="77724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ig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lig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used to form the phosphodiester linkages between fragments of DNA cleaved by restriction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imple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resources/animations/restrictio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ylase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n next slide: http://www.uic.edu/classes/bios/bios100/lectures/techniqu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that protect bacterial DNA from being cleaved by restriction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ethyl groups (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one of the bases in the recognition site, preventing digestion by restriction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47800" y="609480"/>
            <a:ext cx="744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2:26:53Z</dcterms:created>
  <dc:creator>rubina khan</dc:creator>
  <dc:description/>
  <dc:language>en-US</dc:language>
  <cp:lastModifiedBy>rubina khan</cp:lastModifiedBy>
  <dcterms:modified xsi:type="dcterms:W3CDTF">2011-11-29T19:14:20Z</dcterms:modified>
  <cp:revision>133</cp:revision>
  <dc:subject/>
  <dc:title>Biotechnological Tools and Techniques</dc:title>
</cp:coreProperties>
</file>